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11.png" ContentType="image/png"/>
  <Override PartName="/ppt/media/image19.jpeg" ContentType="image/jpeg"/>
  <Override PartName="/ppt/media/image10.jpeg" ContentType="image/jpeg"/>
  <Override PartName="/ppt/media/image5.png" ContentType="image/png"/>
  <Override PartName="/ppt/media/image9.png" ContentType="image/png"/>
  <Override PartName="/ppt/media/image20.jpeg" ContentType="image/jpeg"/>
  <Override PartName="/ppt/media/image18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media/image8.png" ContentType="image/png"/>
  <Override PartName="/ppt/media/image7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D72F7-A216-4C89-993F-BE4F20600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0548F-9BEB-4E45-B16B-C59A658E6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E309E-8C45-4C0B-B290-80CE4A0F5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4B7C8-8EC4-4486-9185-E1B5A4E31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2C705-2A79-48BD-85ED-0E7D63D13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71725-ADA8-4A9F-B65A-516A079A8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9491C-6C71-46C5-9D14-A6592E8C5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9B757-414D-494F-BEB3-3734F962E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1CC6C-1B73-4D60-BD28-2DEC0618D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D3E6B-6978-4DA3-A7B0-EC4C8A0F2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1347A-BDB8-4D97-80B4-76AEE3CC1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C25C4-1AE2-4E3F-AC55-2F2A437E0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1E9F0-316C-451A-AF46-B82CE469E4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C:\Documents and Settings\Usuario1\Mis documentos\IES Ignacio Ellacuria\2&#186; ESO\Presentaciones\tsunami.zip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52720" y="1989000"/>
            <a:ext cx="5113440" cy="3168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612720" y="333360"/>
            <a:ext cx="6046200" cy="896400"/>
            <a:chOff x="612720" y="333360"/>
            <a:chExt cx="6046200" cy="896400"/>
          </a:xfrm>
        </p:grpSpPr>
        <p:sp>
          <p:nvSpPr>
            <p:cNvPr id="43" name=""/>
            <p:cNvSpPr/>
            <p:nvPr/>
          </p:nvSpPr>
          <p:spPr>
            <a:xfrm>
              <a:off x="614520" y="404280"/>
              <a:ext cx="60444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UNIDAD 10: MANIFESTACIONES DE LA ENERGÍA INTERNA DE LA TIERRA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12720" y="333360"/>
              <a:ext cx="5875200" cy="83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" name=""/>
          <p:cNvSpPr/>
          <p:nvPr/>
        </p:nvSpPr>
        <p:spPr>
          <a:xfrm>
            <a:off x="3890880" y="2066760"/>
            <a:ext cx="540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* Los terremo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889440" y="2579760"/>
            <a:ext cx="579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* Riesgo sísm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890880" y="3062160"/>
            <a:ext cx="536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* Distribución de terremotos y volcan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890880" y="3459240"/>
            <a:ext cx="558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* Relieve y placas litosféric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925800" y="3968640"/>
            <a:ext cx="558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* Continentes a la deri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25800" y="4471920"/>
            <a:ext cx="558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* Una perspectiva glob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50920" y="1413000"/>
            <a:ext cx="3313080" cy="24764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179280" y="1916280"/>
            <a:ext cx="3449880" cy="21556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108000" y="2637000"/>
            <a:ext cx="3456000" cy="23652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287280" y="1628640"/>
            <a:ext cx="3348000" cy="41688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5"/>
          <a:stretch/>
        </p:blipFill>
        <p:spPr>
          <a:xfrm>
            <a:off x="179280" y="2300400"/>
            <a:ext cx="3240360" cy="21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77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" dur="770" fill="hold"/>
                                        <p:tgtEl>
                                          <p:spTgt spid="5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4" dur="77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6" dur="77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4" dur="10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6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9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3" dur="5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2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*0.0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h+1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5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4" dur="5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6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3170160" y="114480"/>
            <a:ext cx="2808360" cy="337320"/>
          </a:xfrm>
          <a:prstGeom prst="rect">
            <a:avLst/>
          </a:prstGeom>
          <a:solidFill>
            <a:srgbClr val="ffff99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Verdana"/>
              </a:rPr>
              <a:t>RIESGO SÍSMIC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39640" y="639720"/>
            <a:ext cx="7920000" cy="70380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Tsunami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: Conjunto de olas de gran volumen formadas al elevarse bruscamente una gran masa de agua en el fondo del m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068720" y="2060640"/>
            <a:ext cx="4464000" cy="398880"/>
          </a:xfrm>
          <a:prstGeom prst="rect">
            <a:avLst/>
          </a:prstGeom>
          <a:solidFill>
            <a:srgbClr val="f1f1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erremotos con epicentro bajo el m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2390760" y="1225080"/>
            <a:ext cx="1780560" cy="1212840"/>
            <a:chOff x="2390760" y="1225080"/>
            <a:chExt cx="1780560" cy="1212840"/>
          </a:xfrm>
        </p:grpSpPr>
        <p:sp>
          <p:nvSpPr>
            <p:cNvPr id="220" name=""/>
            <p:cNvSpPr/>
            <p:nvPr/>
          </p:nvSpPr>
          <p:spPr>
            <a:xfrm rot="10800000">
              <a:off x="2700000" y="1224720"/>
              <a:ext cx="1471320" cy="1212840"/>
            </a:xfrm>
            <a:custGeom>
              <a:avLst/>
              <a:gdLst/>
              <a:ahLst/>
              <a:rect l="l" t="t" r="r" b="b"/>
              <a:pathLst>
                <a:path w="927" h="764">
                  <a:moveTo>
                    <a:pt x="889" y="764"/>
                  </a:moveTo>
                  <a:lnTo>
                    <a:pt x="169" y="284"/>
                  </a:lnTo>
                  <a:lnTo>
                    <a:pt x="101" y="335"/>
                  </a:lnTo>
                  <a:lnTo>
                    <a:pt x="0" y="0"/>
                  </a:lnTo>
                  <a:lnTo>
                    <a:pt x="350" y="39"/>
                  </a:lnTo>
                  <a:lnTo>
                    <a:pt x="296" y="117"/>
                  </a:lnTo>
                  <a:lnTo>
                    <a:pt x="927" y="709"/>
                  </a:lnTo>
                  <a:lnTo>
                    <a:pt x="889" y="764"/>
                  </a:lnTo>
                  <a:close/>
                </a:path>
              </a:pathLst>
            </a:custGeom>
            <a:gradFill rotWithShape="0">
              <a:gsLst>
                <a:gs pos="0">
                  <a:srgbClr val="ffcc99"/>
                </a:gs>
                <a:gs pos="100000">
                  <a:srgbClr val="ff6600"/>
                </a:gs>
              </a:gsLst>
              <a:lin ang="13500000"/>
            </a:gradFill>
            <a:ln w="9360">
              <a:solidFill>
                <a:srgbClr val="000000"/>
              </a:solidFill>
              <a:round/>
            </a:ln>
            <a:effectLst>
              <a:outerShdw dist="36147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390760" y="1501560"/>
              <a:ext cx="13888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e producen p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4067280" y="2600280"/>
            <a:ext cx="4249800" cy="398880"/>
          </a:xfrm>
          <a:prstGeom prst="rect">
            <a:avLst/>
          </a:prstGeom>
          <a:solidFill>
            <a:srgbClr val="f1f1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rupciones volcánicas submarin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067280" y="3103560"/>
            <a:ext cx="2233440" cy="398880"/>
          </a:xfrm>
          <a:prstGeom prst="rect">
            <a:avLst/>
          </a:prstGeom>
          <a:solidFill>
            <a:srgbClr val="f1f1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errumbamien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067280" y="3608280"/>
            <a:ext cx="1584360" cy="398880"/>
          </a:xfrm>
          <a:prstGeom prst="rect">
            <a:avLst/>
          </a:prstGeom>
          <a:solidFill>
            <a:srgbClr val="f1f1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Meteori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250920" y="4078440"/>
            <a:ext cx="460440" cy="433080"/>
            <a:chOff x="250920" y="4078440"/>
            <a:chExt cx="460440" cy="433080"/>
          </a:xfrm>
        </p:grpSpPr>
        <p:sp>
          <p:nvSpPr>
            <p:cNvPr id="226" name=""/>
            <p:cNvSpPr/>
            <p:nvPr/>
          </p:nvSpPr>
          <p:spPr>
            <a:xfrm>
              <a:off x="293760" y="4078440"/>
              <a:ext cx="374760" cy="433080"/>
            </a:xfrm>
            <a:prstGeom prst="bevel">
              <a:avLst>
                <a:gd name="adj" fmla="val 12500"/>
              </a:avLst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50920" y="4110840"/>
              <a:ext cx="460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3508da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898560" y="4151880"/>
            <a:ext cx="3960720" cy="83376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Un terremoto eleva de forma brusca el fondo oceánico y un gran volumen de agua s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0" y="1413000"/>
            <a:ext cx="9144000" cy="2535120"/>
          </a:xfrm>
          <a:prstGeom prst="rect">
            <a:avLst/>
          </a:prstGeom>
          <a:ln w="0">
            <a:noFill/>
          </a:ln>
        </p:spPr>
      </p:pic>
      <p:grpSp>
        <p:nvGrpSpPr>
          <p:cNvPr id="230" name=""/>
          <p:cNvGrpSpPr/>
          <p:nvPr/>
        </p:nvGrpSpPr>
        <p:grpSpPr>
          <a:xfrm>
            <a:off x="250920" y="2852640"/>
            <a:ext cx="460440" cy="433080"/>
            <a:chOff x="250920" y="2852640"/>
            <a:chExt cx="460440" cy="433080"/>
          </a:xfrm>
        </p:grpSpPr>
        <p:sp>
          <p:nvSpPr>
            <p:cNvPr id="231" name=""/>
            <p:cNvSpPr/>
            <p:nvPr/>
          </p:nvSpPr>
          <p:spPr>
            <a:xfrm>
              <a:off x="293760" y="2852640"/>
              <a:ext cx="374760" cy="433080"/>
            </a:xfrm>
            <a:prstGeom prst="bevel">
              <a:avLst>
                <a:gd name="adj" fmla="val 12500"/>
              </a:avLst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50920" y="2885040"/>
              <a:ext cx="460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3508da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" name=""/>
          <p:cNvGrpSpPr/>
          <p:nvPr/>
        </p:nvGrpSpPr>
        <p:grpSpPr>
          <a:xfrm>
            <a:off x="3203640" y="3284640"/>
            <a:ext cx="460440" cy="433080"/>
            <a:chOff x="3203640" y="3284640"/>
            <a:chExt cx="460440" cy="433080"/>
          </a:xfrm>
        </p:grpSpPr>
        <p:sp>
          <p:nvSpPr>
            <p:cNvPr id="234" name=""/>
            <p:cNvSpPr/>
            <p:nvPr/>
          </p:nvSpPr>
          <p:spPr>
            <a:xfrm>
              <a:off x="3246480" y="3284640"/>
              <a:ext cx="374760" cy="433080"/>
            </a:xfrm>
            <a:prstGeom prst="bevel">
              <a:avLst>
                <a:gd name="adj" fmla="val 12500"/>
              </a:avLst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203640" y="3317040"/>
              <a:ext cx="460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3508da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279360" y="5472000"/>
            <a:ext cx="460440" cy="433080"/>
            <a:chOff x="279360" y="5472000"/>
            <a:chExt cx="460440" cy="433080"/>
          </a:xfrm>
        </p:grpSpPr>
        <p:sp>
          <p:nvSpPr>
            <p:cNvPr id="237" name=""/>
            <p:cNvSpPr/>
            <p:nvPr/>
          </p:nvSpPr>
          <p:spPr>
            <a:xfrm>
              <a:off x="322200" y="5472000"/>
              <a:ext cx="374760" cy="433080"/>
            </a:xfrm>
            <a:prstGeom prst="bevel">
              <a:avLst>
                <a:gd name="adj" fmla="val 12500"/>
              </a:avLst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79360" y="5504400"/>
              <a:ext cx="460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3508da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9" name=""/>
          <p:cNvSpPr/>
          <p:nvPr/>
        </p:nvSpPr>
        <p:spPr>
          <a:xfrm>
            <a:off x="884160" y="5084280"/>
            <a:ext cx="3960720" cy="108036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Las olas tienen poca altura, pero su longitud de onda es muy grande porque se desplaza un enorme volumen de agu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6991200" y="3213000"/>
            <a:ext cx="460440" cy="433080"/>
            <a:chOff x="6991200" y="3213000"/>
            <a:chExt cx="460440" cy="433080"/>
          </a:xfrm>
        </p:grpSpPr>
        <p:sp>
          <p:nvSpPr>
            <p:cNvPr id="241" name=""/>
            <p:cNvSpPr/>
            <p:nvPr/>
          </p:nvSpPr>
          <p:spPr>
            <a:xfrm>
              <a:off x="7034040" y="3213000"/>
              <a:ext cx="374760" cy="433080"/>
            </a:xfrm>
            <a:prstGeom prst="bevel">
              <a:avLst>
                <a:gd name="adj" fmla="val 12500"/>
              </a:avLst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991200" y="3245400"/>
              <a:ext cx="460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3508da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" name=""/>
          <p:cNvGrpSpPr/>
          <p:nvPr/>
        </p:nvGrpSpPr>
        <p:grpSpPr>
          <a:xfrm>
            <a:off x="4903920" y="4164120"/>
            <a:ext cx="460080" cy="433080"/>
            <a:chOff x="4903920" y="4164120"/>
            <a:chExt cx="460080" cy="433080"/>
          </a:xfrm>
        </p:grpSpPr>
        <p:sp>
          <p:nvSpPr>
            <p:cNvPr id="244" name=""/>
            <p:cNvSpPr/>
            <p:nvPr/>
          </p:nvSpPr>
          <p:spPr>
            <a:xfrm>
              <a:off x="4946400" y="4164120"/>
              <a:ext cx="374400" cy="433080"/>
            </a:xfrm>
            <a:prstGeom prst="bevel">
              <a:avLst>
                <a:gd name="adj" fmla="val 12500"/>
              </a:avLst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903920" y="4196520"/>
              <a:ext cx="460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3508da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"/>
          <p:cNvSpPr/>
          <p:nvPr/>
        </p:nvSpPr>
        <p:spPr>
          <a:xfrm>
            <a:off x="5435640" y="4188240"/>
            <a:ext cx="3673440" cy="83376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erca de la costa la ola roza con el fondo por lo que se estrecha y ele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5230440"/>
            <a:ext cx="3887640" cy="1080360"/>
          </a:xfrm>
          <a:prstGeom prst="rect">
            <a:avLst/>
          </a:prstGeom>
          <a:solidFill>
            <a:srgbClr val="3ae8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on un sistema de alertas puede alertar de la llegada de un tsunami con varios minutos u horas de antel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8" dur="indefinite" restart="never" nodeType="tmRoot">
          <p:childTnLst>
            <p:seq>
              <p:cTn id="699" dur="indefinite" nodeType="mainSeq">
                <p:childTnLst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13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733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736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8" nodeType="with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39" dur="10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10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4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3" nodeType="with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44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5" dur="200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str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str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200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8" nodeType="with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49" dur="1000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1000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51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5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5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5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1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7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6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468360" y="496800"/>
            <a:ext cx="8496360" cy="530856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>
            <a:off x="1979640" y="114480"/>
            <a:ext cx="5184720" cy="337320"/>
          </a:xfrm>
          <a:prstGeom prst="rect">
            <a:avLst/>
          </a:prstGeom>
          <a:solidFill>
            <a:srgbClr val="ffff99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Verdana"/>
              </a:rPr>
              <a:t>DISTRIBUCIÓN DE TERREMOTOS Y VOLCA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9640" y="5949720"/>
            <a:ext cx="8425080" cy="340560"/>
          </a:xfrm>
          <a:prstGeom prst="rect">
            <a:avLst/>
          </a:prstGeom>
          <a:solidFill>
            <a:srgbClr val="3ae8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Los terremotos no ocurren de forma homogénea sobre la superficie terrest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7" dur="indefinite" restart="never" nodeType="tmRoot">
          <p:childTnLst>
            <p:seq>
              <p:cTn id="818" dur="indefinite" nodeType="mainSeq">
                <p:childTnLst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823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2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2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6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1979640" y="114480"/>
            <a:ext cx="5256360" cy="337320"/>
          </a:xfrm>
          <a:prstGeom prst="rect">
            <a:avLst/>
          </a:prstGeom>
          <a:solidFill>
            <a:srgbClr val="ffff99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Verdana"/>
              </a:rPr>
              <a:t>DISTRIBUCIÓN DE TERREMOTOS Y VOLCA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39640" y="765000"/>
            <a:ext cx="6912000" cy="58716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Los terremotos se producen cuando se fracturan grandes masas de rocas y las masas resultantes se mueven una respecto a otr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4960800" y="1844640"/>
            <a:ext cx="3643560" cy="1584360"/>
            <a:chOff x="4960800" y="1844640"/>
            <a:chExt cx="3643560" cy="1584360"/>
          </a:xfrm>
        </p:grpSpPr>
        <p:sp>
          <p:nvSpPr>
            <p:cNvPr id="254" name=""/>
            <p:cNvSpPr/>
            <p:nvPr/>
          </p:nvSpPr>
          <p:spPr>
            <a:xfrm>
              <a:off x="4965840" y="1844640"/>
              <a:ext cx="3638520" cy="1584360"/>
            </a:xfrm>
            <a:prstGeom prst="rect">
              <a:avLst/>
            </a:prstGeom>
            <a:solidFill>
              <a:srgbClr val="feb6a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960800" y="1884240"/>
              <a:ext cx="35719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Los lugares donde ocurren terremotos son zonas con importantes fracturas y en las que haya movimientos de unas masas de rocas respecto a otr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" name=""/>
          <p:cNvGrpSpPr/>
          <p:nvPr/>
        </p:nvGrpSpPr>
        <p:grpSpPr>
          <a:xfrm>
            <a:off x="3221640" y="1252800"/>
            <a:ext cx="1719360" cy="691920"/>
            <a:chOff x="3221640" y="1252800"/>
            <a:chExt cx="1719360" cy="691920"/>
          </a:xfrm>
        </p:grpSpPr>
        <p:sp>
          <p:nvSpPr>
            <p:cNvPr id="257" name=""/>
            <p:cNvSpPr/>
            <p:nvPr/>
          </p:nvSpPr>
          <p:spPr>
            <a:xfrm rot="980400">
              <a:off x="3742920" y="1413000"/>
              <a:ext cx="1181160" cy="288720"/>
            </a:xfrm>
            <a:custGeom>
              <a:avLst/>
              <a:gdLst>
                <a:gd name="textAreaLeft" fmla="*/ 184320 w 1181160"/>
                <a:gd name="textAreaRight" fmla="*/ 1033560 w 1181160"/>
                <a:gd name="textAreaTop" fmla="*/ 72000 h 288720"/>
                <a:gd name="textAreaBottom" fmla="*/ 216720 h 288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221640" y="1576440"/>
              <a:ext cx="1348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or lo tan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9" name=""/>
          <p:cNvGrpSpPr/>
          <p:nvPr/>
        </p:nvGrpSpPr>
        <p:grpSpPr>
          <a:xfrm>
            <a:off x="4960800" y="3789360"/>
            <a:ext cx="3643560" cy="719280"/>
            <a:chOff x="4960800" y="3789360"/>
            <a:chExt cx="3643560" cy="719280"/>
          </a:xfrm>
        </p:grpSpPr>
        <p:sp>
          <p:nvSpPr>
            <p:cNvPr id="260" name=""/>
            <p:cNvSpPr/>
            <p:nvPr/>
          </p:nvSpPr>
          <p:spPr>
            <a:xfrm>
              <a:off x="4965840" y="3789360"/>
              <a:ext cx="3638520" cy="719280"/>
            </a:xfrm>
            <a:prstGeom prst="rect">
              <a:avLst/>
            </a:prstGeom>
            <a:solidFill>
              <a:srgbClr val="feb6a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960800" y="3806640"/>
              <a:ext cx="3571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Además en esas zonas hay una intensa actividad volcánica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108000" y="1965240"/>
            <a:ext cx="4680000" cy="25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0" dur="indefinite" restart="never" nodeType="tmRoot">
          <p:childTnLst>
            <p:seq>
              <p:cTn id="841" dur="indefinite" nodeType="mainSeq">
                <p:childTnLst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4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61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4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5" dur="2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2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2411280" y="114480"/>
            <a:ext cx="4354560" cy="337320"/>
          </a:xfrm>
          <a:prstGeom prst="rect">
            <a:avLst/>
          </a:prstGeom>
          <a:solidFill>
            <a:srgbClr val="ffff99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Verdana"/>
              </a:rPr>
              <a:t>RELIEVE Y PLACAS LITOSFÉRIC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4" name=""/>
          <p:cNvGraphicFramePr/>
          <p:nvPr/>
        </p:nvGraphicFramePr>
        <p:xfrm>
          <a:off x="152280" y="1843200"/>
          <a:ext cx="8763120" cy="331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843200"/>
                    <a:ext cx="8763120" cy="331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6" name=""/>
          <p:cNvSpPr/>
          <p:nvPr/>
        </p:nvSpPr>
        <p:spPr>
          <a:xfrm>
            <a:off x="4267080" y="1649520"/>
            <a:ext cx="76320" cy="1371600"/>
          </a:xfrm>
          <a:prstGeom prst="line">
            <a:avLst/>
          </a:prstGeom>
          <a:ln w="936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042920" y="1844640"/>
            <a:ext cx="938160" cy="1405080"/>
          </a:xfrm>
          <a:prstGeom prst="line">
            <a:avLst/>
          </a:prstGeom>
          <a:ln w="936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 flipH="1" flipV="1">
            <a:off x="5940360" y="3212640"/>
            <a:ext cx="765360" cy="2094120"/>
          </a:xfrm>
          <a:prstGeom prst="line">
            <a:avLst/>
          </a:prstGeom>
          <a:ln w="936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79280" y="1341360"/>
            <a:ext cx="115272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Times New Roman"/>
              </a:rPr>
              <a:t>Fosa submar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048200" y="1268280"/>
            <a:ext cx="167616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Times New Roman"/>
              </a:rPr>
              <a:t>Dorsal oceán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5867280" y="5154480"/>
            <a:ext cx="144792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Times New Roman"/>
              </a:rPr>
              <a:t>Llanuras abis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643280" y="5907600"/>
            <a:ext cx="4027680" cy="83376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Zonas extensas y planas con algún monte submarino. Es la mayor parte del fondo oceánic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867280" y="1185840"/>
            <a:ext cx="3019680" cy="58716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levaciones submarinas estrechas y larg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476360" y="1154520"/>
            <a:ext cx="2160720" cy="83376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Surcos largos y estrechos muy profun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7" dur="indefinite" restart="never" nodeType="tmRoot">
          <p:childTnLst>
            <p:seq>
              <p:cTn id="878" dur="indefinite" nodeType="mainSeq">
                <p:childTnLst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3" dur="2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4" dur="2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2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2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891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6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7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8" fill="hold">
                            <p:stCondLst>
                              <p:cond delay="500"/>
                            </p:stCondLst>
                            <p:childTnLst>
                              <p:par>
                                <p:cTn id="89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1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0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1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2" fill="hold">
                            <p:stCondLst>
                              <p:cond delay="500"/>
                            </p:stCondLst>
                            <p:childTnLst>
                              <p:par>
                                <p:cTn id="9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5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fill="hold">
                      <p:stCondLst>
                        <p:cond delay="indefinite"/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6" fill="hold">
                            <p:stCondLst>
                              <p:cond delay="500"/>
                            </p:stCondLst>
                            <p:childTnLst>
                              <p:par>
                                <p:cTn id="9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9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2484360" y="114480"/>
            <a:ext cx="4105440" cy="337320"/>
          </a:xfrm>
          <a:prstGeom prst="rect">
            <a:avLst/>
          </a:prstGeom>
          <a:solidFill>
            <a:srgbClr val="ffff99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Verdana"/>
              </a:rPr>
              <a:t>RELIEVE Y PLACAS LITOSFÉRIC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50920" y="692280"/>
            <a:ext cx="8569080" cy="368280"/>
          </a:xfrm>
          <a:prstGeom prst="rect">
            <a:avLst/>
          </a:prstGeom>
          <a:solidFill>
            <a:srgbClr val="ffffb3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La litosfera está dividida en fragmentos rígidos llamados placas LITOSFÉR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>
            <a:off x="1332000" y="1268280"/>
            <a:ext cx="6553080" cy="449280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/>
          <p:nvPr/>
        </p:nvSpPr>
        <p:spPr>
          <a:xfrm>
            <a:off x="1401840" y="5956200"/>
            <a:ext cx="6842160" cy="64260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Los límites de las placas vienen marcados por las dorsales oceánicas, las fosas submarinas y altas cordilleras continent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4" dur="indefinite" restart="never" nodeType="tmRoot">
          <p:childTnLst>
            <p:seq>
              <p:cTn id="935" dur="indefinite" nodeType="mainSeq">
                <p:childTnLst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2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3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fill="hold">
                      <p:stCondLst>
                        <p:cond delay="indefinite"/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8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3" dur="50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8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9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0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fill="hold">
                      <p:stCondLst>
                        <p:cond delay="indefinite"/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2554200" y="114480"/>
            <a:ext cx="4105440" cy="337320"/>
          </a:xfrm>
          <a:prstGeom prst="rect">
            <a:avLst/>
          </a:prstGeom>
          <a:solidFill>
            <a:srgbClr val="ffff99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Verdana"/>
              </a:rPr>
              <a:t>CONTINENTES A LA DERIV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1332000" y="549360"/>
            <a:ext cx="6553080" cy="44924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42920" y="5300640"/>
            <a:ext cx="6842160" cy="91692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Hay siete grandes placas litosféricas: Euroasiática, Africana, Suramericana, Norteamericana, Pacífica, Indoaustraliana y Antár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5" dur="indefinite" restart="never" nodeType="tmRoot">
          <p:childTnLst>
            <p:seq>
              <p:cTn id="966" dur="indefinite" nodeType="mainSeq">
                <p:childTnLst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1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6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7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8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2554200" y="114480"/>
            <a:ext cx="4105440" cy="337320"/>
          </a:xfrm>
          <a:prstGeom prst="rect">
            <a:avLst/>
          </a:prstGeom>
          <a:solidFill>
            <a:srgbClr val="ffff99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Verdana"/>
              </a:rPr>
              <a:t>CONTINENTES A LA DERIV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1"/>
          <a:stretch/>
        </p:blipFill>
        <p:spPr>
          <a:xfrm>
            <a:off x="1332000" y="549360"/>
            <a:ext cx="6553080" cy="449244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1042920" y="5300640"/>
            <a:ext cx="6842160" cy="64260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n sus límites se producen movimientos de unas placas respecto a otras, lo que origina terremotos en esas fractur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3" dur="indefinite" restart="never" nodeType="tmRoot">
          <p:childTnLst>
            <p:seq>
              <p:cTn id="984" dur="indefinite" nodeType="mainSeq">
                <p:childTnLst>
                  <p:par>
                    <p:cTn id="985" fill="hold">
                      <p:stCondLst>
                        <p:cond delay="indefinite"/>
                      </p:stCondLst>
                      <p:childTnLst>
                        <p:par>
                          <p:cTn id="986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89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0" fill="hold">
                      <p:stCondLst>
                        <p:cond delay="indefinite"/>
                      </p:stCondLst>
                      <p:childTnLst>
                        <p:par>
                          <p:cTn id="991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4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5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6" fill="hold">
                      <p:stCondLst>
                        <p:cond delay="indefinite"/>
                      </p:stCondLst>
                      <p:childTnLst>
                        <p:par>
                          <p:cTn id="997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2554200" y="114480"/>
            <a:ext cx="4105440" cy="337320"/>
          </a:xfrm>
          <a:prstGeom prst="rect">
            <a:avLst/>
          </a:prstGeom>
          <a:solidFill>
            <a:srgbClr val="ffff99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Verdana"/>
              </a:rPr>
              <a:t>CONTINENTES A LA DERIV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395280" y="693720"/>
            <a:ext cx="4452840" cy="5543640"/>
          </a:xfrm>
          <a:prstGeom prst="rect">
            <a:avLst/>
          </a:prstGeom>
          <a:ln w="0">
            <a:noFill/>
          </a:ln>
        </p:spPr>
      </p:pic>
      <p:sp>
        <p:nvSpPr>
          <p:cNvPr id="287" name=""/>
          <p:cNvSpPr/>
          <p:nvPr/>
        </p:nvSpPr>
        <p:spPr>
          <a:xfrm>
            <a:off x="5580000" y="907920"/>
            <a:ext cx="1762200" cy="61128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 vide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0" dur="indefinite" restart="never" nodeType="tmRoot">
          <p:childTnLst>
            <p:seq>
              <p:cTn id="1001" dur="indefinite" nodeType="mainSeq">
                <p:childTnLst>
                  <p:par>
                    <p:cTn id="1002" fill="hold">
                      <p:stCondLst>
                        <p:cond delay="indefinite"/>
                      </p:stCondLst>
                      <p:childTnLst>
                        <p:par>
                          <p:cTn id="1003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6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7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8" fill="hold">
                      <p:stCondLst>
                        <p:cond delay="indefinite"/>
                      </p:stCondLst>
                      <p:childTnLst>
                        <p:par>
                          <p:cTn id="1009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2" dur="2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2554200" y="114480"/>
            <a:ext cx="4105440" cy="337320"/>
          </a:xfrm>
          <a:prstGeom prst="rect">
            <a:avLst/>
          </a:prstGeom>
          <a:solidFill>
            <a:srgbClr val="ffff99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Verdana"/>
              </a:rPr>
              <a:t>CONTINENTES A LA DERIV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116000" y="914400"/>
            <a:ext cx="7494480" cy="642600"/>
          </a:xfrm>
          <a:prstGeom prst="rect">
            <a:avLst/>
          </a:prstGeom>
          <a:solidFill>
            <a:srgbClr val="ffffb3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El desplazamiento de las placas se produce porque los materiales que están bajo la litosfera se mueven por medio de corrientes de convec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1619280" y="2428920"/>
            <a:ext cx="6448320" cy="402444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/>
          <p:nvPr/>
        </p:nvSpPr>
        <p:spPr>
          <a:xfrm>
            <a:off x="1116000" y="1700280"/>
            <a:ext cx="7494480" cy="642600"/>
          </a:xfrm>
          <a:prstGeom prst="rect">
            <a:avLst/>
          </a:prstGeom>
          <a:solidFill>
            <a:srgbClr val="ffffb3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Estos materiales están a altas temperaturas y presiones en un estado sólido dúct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3" dur="indefinite" restart="never" nodeType="tmRoot">
          <p:childTnLst>
            <p:seq>
              <p:cTn id="1014" dur="indefinite" nodeType="mainSeq">
                <p:childTnLst>
                  <p:par>
                    <p:cTn id="1015" fill="hold">
                      <p:stCondLst>
                        <p:cond delay="indefinite"/>
                      </p:stCondLst>
                      <p:childTnLst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9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0" fill="hold">
                      <p:stCondLst>
                        <p:cond delay="indefinite"/>
                      </p:stCondLst>
                      <p:childTnLst>
                        <p:par>
                          <p:cTn id="1021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9" dur="500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8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9" fill="hold">
                      <p:stCondLst>
                        <p:cond delay="indefinite"/>
                      </p:stCondLst>
                      <p:childTnLst>
                        <p:par>
                          <p:cTn id="1040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3" dur="500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3203640" y="114480"/>
            <a:ext cx="3313080" cy="337320"/>
          </a:xfrm>
          <a:prstGeom prst="rect">
            <a:avLst/>
          </a:prstGeom>
          <a:solidFill>
            <a:srgbClr val="ffff99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Verdana"/>
              </a:rPr>
              <a:t>CONTINENTES A LA DERIV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79280" y="334800"/>
            <a:ext cx="2016360" cy="1326960"/>
          </a:xfrm>
          <a:prstGeom prst="rect">
            <a:avLst/>
          </a:prstGeom>
          <a:solidFill>
            <a:srgbClr val="3ae8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l movimiento de los continentes y la localización de volcanes y terremo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1807200" y="775080"/>
            <a:ext cx="2205360" cy="1562040"/>
            <a:chOff x="1807200" y="775080"/>
            <a:chExt cx="2205360" cy="1562040"/>
          </a:xfrm>
        </p:grpSpPr>
        <p:sp>
          <p:nvSpPr>
            <p:cNvPr id="295" name=""/>
            <p:cNvSpPr/>
            <p:nvPr/>
          </p:nvSpPr>
          <p:spPr>
            <a:xfrm rot="1319400">
              <a:off x="1895040" y="1123200"/>
              <a:ext cx="2028960" cy="865440"/>
            </a:xfrm>
            <a:custGeom>
              <a:avLst/>
              <a:gdLst/>
              <a:ahLst/>
              <a:rect l="l" t="t" r="r" b="b"/>
              <a:pathLst>
                <a:path w="63" h="30">
                  <a:moveTo>
                    <a:pt x="63" y="0"/>
                  </a:moveTo>
                  <a:lnTo>
                    <a:pt x="48" y="2"/>
                  </a:lnTo>
                  <a:lnTo>
                    <a:pt x="50" y="5"/>
                  </a:lnTo>
                  <a:cubicBezTo>
                    <a:pt x="50" y="5"/>
                    <a:pt x="23" y="26"/>
                    <a:pt x="0" y="20"/>
                  </a:cubicBezTo>
                  <a:cubicBezTo>
                    <a:pt x="21" y="30"/>
                    <a:pt x="54" y="10"/>
                    <a:pt x="54" y="10"/>
                  </a:cubicBezTo>
                  <a:lnTo>
                    <a:pt x="56" y="13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fc8ce4"/>
                </a:gs>
                <a:gs pos="100000">
                  <a:srgbClr val="fcc7f1"/>
                </a:gs>
              </a:gsLst>
              <a:lin ang="10800000"/>
            </a:gra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2101680" y="111744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e explica c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7" name=""/>
          <p:cNvSpPr/>
          <p:nvPr/>
        </p:nvSpPr>
        <p:spPr>
          <a:xfrm>
            <a:off x="4165200" y="1288800"/>
            <a:ext cx="4575960" cy="340560"/>
          </a:xfrm>
          <a:prstGeom prst="rect">
            <a:avLst/>
          </a:prstGeom>
          <a:solidFill>
            <a:srgbClr val="c2f8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TEORÍA DE LA TECTÓNICA DE PLA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4356000" y="2492280"/>
            <a:ext cx="4608720" cy="5806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</a:rPr>
              <a:t>La litosfera se divide en fragmentos rígidos llamados placas litosféric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427640" y="3284640"/>
            <a:ext cx="4537080" cy="82404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</a:rPr>
              <a:t>El interior terrestre está a alta temperatura y sus materiales realizan corrientes de convec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427640" y="4221000"/>
            <a:ext cx="4537080" cy="5806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</a:rPr>
              <a:t>Las corrientes de convección mueven a las placas situadas sobre ell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4572000" y="1700280"/>
            <a:ext cx="2952360" cy="658080"/>
            <a:chOff x="4572000" y="1700280"/>
            <a:chExt cx="2952360" cy="658080"/>
          </a:xfrm>
        </p:grpSpPr>
        <p:sp>
          <p:nvSpPr>
            <p:cNvPr id="302" name=""/>
            <p:cNvSpPr/>
            <p:nvPr/>
          </p:nvSpPr>
          <p:spPr>
            <a:xfrm>
              <a:off x="4575960" y="1700280"/>
              <a:ext cx="2948400" cy="647280"/>
            </a:xfrm>
            <a:prstGeom prst="rect">
              <a:avLst/>
            </a:prstGeom>
            <a:solidFill>
              <a:srgbClr val="feb6a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572000" y="1715760"/>
              <a:ext cx="289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Tiene las siguientes ideas fundamental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4" name=""/>
          <p:cNvSpPr/>
          <p:nvPr/>
        </p:nvSpPr>
        <p:spPr>
          <a:xfrm>
            <a:off x="4427640" y="4935600"/>
            <a:ext cx="4537080" cy="82404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</a:rPr>
              <a:t>Esos movimientos causan terremotos, la separación y la unión de los continentes y la formación de las grandes cordiller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5" name=""/>
          <p:cNvGraphicFramePr/>
          <p:nvPr/>
        </p:nvGraphicFramePr>
        <p:xfrm>
          <a:off x="34920" y="2276640"/>
          <a:ext cx="4248000" cy="238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920" y="2276640"/>
                    <a:ext cx="4248000" cy="23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4" dur="indefinite" restart="never" nodeType="tmRoot">
          <p:childTnLst>
            <p:seq>
              <p:cTn id="1045" dur="indefinite" nodeType="mainSeq">
                <p:childTnLst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05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59" dur="80"/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60" dur="80"/>
                                        <p:tgtEl>
                                          <p:spTgt spid="2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1" dur="80"/>
                                        <p:tgtEl>
                                          <p:spTgt spid="2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2" fill="hold">
                      <p:stCondLst>
                        <p:cond delay="indefinite"/>
                      </p:stCondLst>
                      <p:childTnLst>
                        <p:par>
                          <p:cTn id="1063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66" dur="80"/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67" dur="80"/>
                                        <p:tgtEl>
                                          <p:spTgt spid="2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8" dur="80"/>
                                        <p:tgtEl>
                                          <p:spTgt spid="2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3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4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5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6" fill="hold">
                      <p:stCondLst>
                        <p:cond delay="indefinite"/>
                      </p:stCondLst>
                      <p:childTnLst>
                        <p:par>
                          <p:cTn id="1077" fill="hold">
                            <p:stCondLst>
                              <p:cond delay="0"/>
                            </p:stCondLst>
                            <p:childTnLst>
                              <p:par>
                                <p:cTn id="10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0" dur="2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1" dur="2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2" dur="2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7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8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9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2" dur="2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3" dur="2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4" dur="2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5" dur="2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9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0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4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5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6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7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8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2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3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4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170160" y="114480"/>
            <a:ext cx="2808360" cy="337320"/>
          </a:xfrm>
          <a:prstGeom prst="rect">
            <a:avLst/>
          </a:prstGeom>
          <a:solidFill>
            <a:srgbClr val="ffff99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Verdana"/>
              </a:rPr>
              <a:t>LOS TERREMOT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9640" y="639720"/>
            <a:ext cx="6985080" cy="70380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Terremoto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: Vibración del terreno producido por una brusca liberación de energía, se llaman también sismo o seísm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601560" y="1413000"/>
            <a:ext cx="4186440" cy="3051000"/>
          </a:xfrm>
          <a:prstGeom prst="rect">
            <a:avLst/>
          </a:prstGeom>
          <a:ln w="0">
            <a:noFill/>
          </a:ln>
        </p:spPr>
      </p:pic>
      <p:grpSp>
        <p:nvGrpSpPr>
          <p:cNvPr id="59" name=""/>
          <p:cNvGrpSpPr/>
          <p:nvPr/>
        </p:nvGrpSpPr>
        <p:grpSpPr>
          <a:xfrm>
            <a:off x="1382040" y="2787480"/>
            <a:ext cx="381960" cy="329040"/>
            <a:chOff x="1382040" y="2787480"/>
            <a:chExt cx="381960" cy="329040"/>
          </a:xfrm>
        </p:grpSpPr>
        <p:grpSp>
          <p:nvGrpSpPr>
            <p:cNvPr id="60" name=""/>
            <p:cNvGrpSpPr/>
            <p:nvPr/>
          </p:nvGrpSpPr>
          <p:grpSpPr>
            <a:xfrm>
              <a:off x="1521000" y="2787480"/>
              <a:ext cx="243000" cy="261720"/>
              <a:chOff x="1521000" y="2787480"/>
              <a:chExt cx="243000" cy="261720"/>
            </a:xfrm>
          </p:grpSpPr>
          <p:sp>
            <p:nvSpPr>
              <p:cNvPr id="61" name=""/>
              <p:cNvSpPr/>
              <p:nvPr/>
            </p:nvSpPr>
            <p:spPr>
              <a:xfrm flipV="1" rot="19575600">
                <a:off x="1658880" y="2901960"/>
                <a:ext cx="72720" cy="138240"/>
              </a:xfrm>
              <a:prstGeom prst="rtTriangle">
                <a:avLst/>
              </a:prstGeom>
              <a:solidFill>
                <a:srgbClr val="00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" bIns="-1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flipH="1" flipV="1">
                <a:off x="1521000" y="2787480"/>
                <a:ext cx="119880" cy="179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" name=""/>
            <p:cNvGrpSpPr/>
            <p:nvPr/>
          </p:nvGrpSpPr>
          <p:grpSpPr>
            <a:xfrm>
              <a:off x="1382040" y="2854800"/>
              <a:ext cx="243000" cy="261720"/>
              <a:chOff x="1382040" y="2854800"/>
              <a:chExt cx="243000" cy="261720"/>
            </a:xfrm>
          </p:grpSpPr>
          <p:sp>
            <p:nvSpPr>
              <p:cNvPr id="64" name=""/>
              <p:cNvSpPr/>
              <p:nvPr/>
            </p:nvSpPr>
            <p:spPr>
              <a:xfrm flipH="1" rot="19575600">
                <a:off x="1413720" y="2863080"/>
                <a:ext cx="72720" cy="138240"/>
              </a:xfrm>
              <a:prstGeom prst="rtTriangle">
                <a:avLst/>
              </a:prstGeom>
              <a:solidFill>
                <a:srgbClr val="00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" bIns="-1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1505160" y="2937240"/>
                <a:ext cx="119880" cy="179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6" name=""/>
          <p:cNvGrpSpPr/>
          <p:nvPr/>
        </p:nvGrpSpPr>
        <p:grpSpPr>
          <a:xfrm>
            <a:off x="2224440" y="2253240"/>
            <a:ext cx="2145960" cy="1503000"/>
            <a:chOff x="2224440" y="2253240"/>
            <a:chExt cx="2145960" cy="1503000"/>
          </a:xfrm>
        </p:grpSpPr>
        <p:sp>
          <p:nvSpPr>
            <p:cNvPr id="67" name=""/>
            <p:cNvSpPr/>
            <p:nvPr/>
          </p:nvSpPr>
          <p:spPr>
            <a:xfrm rot="18281400">
              <a:off x="2236320" y="2428560"/>
              <a:ext cx="609840" cy="349200"/>
            </a:xfrm>
            <a:prstGeom prst="rightArrow">
              <a:avLst>
                <a:gd name="adj1" fmla="val 50000"/>
                <a:gd name="adj2" fmla="val 43660"/>
              </a:avLst>
            </a:prstGeom>
            <a:gradFill rotWithShape="0">
              <a:gsLst>
                <a:gs pos="0">
                  <a:srgbClr val="066138"/>
                </a:gs>
                <a:gs pos="100000">
                  <a:srgbClr val="0ed47a"/>
                </a:gs>
              </a:gsLst>
              <a:lin ang="8100000"/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 rot="18980400">
              <a:off x="3665520" y="3234960"/>
              <a:ext cx="685440" cy="330120"/>
            </a:xfrm>
            <a:prstGeom prst="rightArrow">
              <a:avLst>
                <a:gd name="adj1" fmla="val 48343"/>
                <a:gd name="adj2" fmla="val 97136"/>
              </a:avLst>
            </a:prstGeom>
            <a:gradFill rotWithShape="0">
              <a:gsLst>
                <a:gs pos="0">
                  <a:srgbClr val="066138"/>
                </a:gs>
                <a:gs pos="100000">
                  <a:srgbClr val="0ed47a"/>
                </a:gs>
              </a:gsLst>
              <a:lin ang="8100000"/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1594080" y="3089160"/>
            <a:ext cx="1310760" cy="1111680"/>
            <a:chOff x="1594080" y="3089160"/>
            <a:chExt cx="1310760" cy="1111680"/>
          </a:xfrm>
        </p:grpSpPr>
        <p:sp>
          <p:nvSpPr>
            <p:cNvPr id="70" name=""/>
            <p:cNvSpPr/>
            <p:nvPr/>
          </p:nvSpPr>
          <p:spPr>
            <a:xfrm rot="1972800">
              <a:off x="1639440" y="3355920"/>
              <a:ext cx="425520" cy="196920"/>
            </a:xfrm>
            <a:prstGeom prst="leftArrow">
              <a:avLst>
                <a:gd name="adj1" fmla="val 50000"/>
                <a:gd name="adj2" fmla="val 54022"/>
              </a:avLst>
            </a:prstGeom>
            <a:gradFill rotWithShape="0">
              <a:gsLst>
                <a:gs pos="0">
                  <a:srgbClr val="a3f9d2"/>
                </a:gs>
                <a:gs pos="100000">
                  <a:srgbClr val="3399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 rot="19627200">
              <a:off x="2426400" y="3438720"/>
              <a:ext cx="425520" cy="196560"/>
            </a:xfrm>
            <a:prstGeom prst="leftArrow">
              <a:avLst>
                <a:gd name="adj1" fmla="val 50000"/>
                <a:gd name="adj2" fmla="val 54121"/>
              </a:avLst>
            </a:prstGeom>
            <a:gradFill rotWithShape="0">
              <a:gsLst>
                <a:gs pos="0">
                  <a:srgbClr val="339933"/>
                </a:gs>
                <a:gs pos="100000">
                  <a:srgbClr val="a3f9d2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122200" y="3089160"/>
              <a:ext cx="196920" cy="419400"/>
            </a:xfrm>
            <a:prstGeom prst="upArrow">
              <a:avLst>
                <a:gd name="adj1" fmla="val 50000"/>
                <a:gd name="adj2" fmla="val 53245"/>
              </a:avLst>
            </a:prstGeom>
            <a:gradFill rotWithShape="0">
              <a:gsLst>
                <a:gs pos="0">
                  <a:srgbClr val="066138"/>
                </a:gs>
                <a:gs pos="100000">
                  <a:srgbClr val="0ed47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rot="21308400">
              <a:off x="1601640" y="3679560"/>
              <a:ext cx="425520" cy="196920"/>
            </a:xfrm>
            <a:prstGeom prst="leftArrow">
              <a:avLst>
                <a:gd name="adj1" fmla="val 50000"/>
                <a:gd name="adj2" fmla="val 54022"/>
              </a:avLst>
            </a:prstGeom>
            <a:gradFill rotWithShape="0">
              <a:gsLst>
                <a:gs pos="0">
                  <a:srgbClr val="a3f9d2"/>
                </a:gs>
                <a:gs pos="100000">
                  <a:srgbClr val="339933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 rot="1717200">
              <a:off x="2457720" y="3914640"/>
              <a:ext cx="425520" cy="196200"/>
            </a:xfrm>
            <a:prstGeom prst="leftArrow">
              <a:avLst>
                <a:gd name="adj1" fmla="val 50000"/>
                <a:gd name="adj2" fmla="val 54220"/>
              </a:avLst>
            </a:prstGeom>
            <a:gradFill rotWithShape="0">
              <a:gsLst>
                <a:gs pos="0">
                  <a:srgbClr val="339933"/>
                </a:gs>
                <a:gs pos="100000">
                  <a:srgbClr val="a3f9d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" name=""/>
          <p:cNvSpPr/>
          <p:nvPr/>
        </p:nvSpPr>
        <p:spPr>
          <a:xfrm>
            <a:off x="2195640" y="2781000"/>
            <a:ext cx="109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Epicent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1244520" y="3743280"/>
            <a:ext cx="1585800" cy="679680"/>
            <a:chOff x="1244520" y="3743280"/>
            <a:chExt cx="1585800" cy="679680"/>
          </a:xfrm>
        </p:grpSpPr>
        <p:sp>
          <p:nvSpPr>
            <p:cNvPr id="77" name=""/>
            <p:cNvSpPr/>
            <p:nvPr/>
          </p:nvSpPr>
          <p:spPr>
            <a:xfrm>
              <a:off x="1244520" y="4085640"/>
              <a:ext cx="1585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Hipocentr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>
              <a:off x="2108160" y="3743280"/>
              <a:ext cx="123840" cy="458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"/>
          <p:cNvGrpSpPr/>
          <p:nvPr/>
        </p:nvGrpSpPr>
        <p:grpSpPr>
          <a:xfrm>
            <a:off x="520560" y="3495600"/>
            <a:ext cx="1041480" cy="1155240"/>
            <a:chOff x="520560" y="3495600"/>
            <a:chExt cx="1041480" cy="1155240"/>
          </a:xfrm>
        </p:grpSpPr>
        <p:sp>
          <p:nvSpPr>
            <p:cNvPr id="80" name=""/>
            <p:cNvSpPr/>
            <p:nvPr/>
          </p:nvSpPr>
          <p:spPr>
            <a:xfrm flipH="1">
              <a:off x="909360" y="3495600"/>
              <a:ext cx="123840" cy="599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flipH="1">
              <a:off x="909360" y="3549240"/>
              <a:ext cx="370080" cy="545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20560" y="4070160"/>
              <a:ext cx="1041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Ondas sísmica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" name=""/>
          <p:cNvGrpSpPr/>
          <p:nvPr/>
        </p:nvGrpSpPr>
        <p:grpSpPr>
          <a:xfrm>
            <a:off x="2373480" y="3884760"/>
            <a:ext cx="830160" cy="828720"/>
            <a:chOff x="2373480" y="3884760"/>
            <a:chExt cx="830160" cy="828720"/>
          </a:xfrm>
        </p:grpSpPr>
        <p:sp>
          <p:nvSpPr>
            <p:cNvPr id="84" name=""/>
            <p:cNvSpPr/>
            <p:nvPr/>
          </p:nvSpPr>
          <p:spPr>
            <a:xfrm>
              <a:off x="2445120" y="4376160"/>
              <a:ext cx="75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Fall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373480" y="3884760"/>
              <a:ext cx="405000" cy="58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"/>
          <p:cNvSpPr/>
          <p:nvPr/>
        </p:nvSpPr>
        <p:spPr>
          <a:xfrm>
            <a:off x="539640" y="4941720"/>
            <a:ext cx="7920000" cy="58716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Se producen cuando se fracturan grandes masas de rocas y las masas resultantes se mueven una respecto a otra. A esas roturas se llaman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fallas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932360" y="1700280"/>
            <a:ext cx="38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3399"/>
                </a:solidFill>
                <a:latin typeface="Arial"/>
              </a:rPr>
              <a:t>Hipocentro</a:t>
            </a:r>
            <a:r>
              <a:rPr b="0" i="1" lang="es-ES_tradnl" sz="1800" spc="-1" strike="noStrike">
                <a:solidFill>
                  <a:srgbClr val="003399"/>
                </a:solidFill>
                <a:latin typeface="Arial"/>
              </a:rPr>
              <a:t>: Lugar donde se origina el terremo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003640" y="2500200"/>
            <a:ext cx="388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3399"/>
                </a:solidFill>
                <a:latin typeface="Arial"/>
              </a:rPr>
              <a:t>Desde el hipocentro las </a:t>
            </a:r>
            <a:r>
              <a:rPr b="1" i="1" lang="es-ES_tradnl" sz="1800" spc="-1" strike="noStrike">
                <a:solidFill>
                  <a:srgbClr val="003399"/>
                </a:solidFill>
                <a:latin typeface="Arial"/>
              </a:rPr>
              <a:t>ondas sísmicas</a:t>
            </a:r>
            <a:r>
              <a:rPr b="0" i="1" lang="es-ES_tradnl" sz="1800" spc="-1" strike="noStrike">
                <a:solidFill>
                  <a:srgbClr val="003399"/>
                </a:solidFill>
                <a:latin typeface="Arial"/>
              </a:rPr>
              <a:t> (vibraciones) se transmiten en todas las direccio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932360" y="3573360"/>
            <a:ext cx="38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3399"/>
                </a:solidFill>
                <a:latin typeface="Arial"/>
              </a:rPr>
              <a:t>Epicentro</a:t>
            </a:r>
            <a:r>
              <a:rPr b="0" i="1" lang="es-ES_tradnl" sz="1800" spc="-1" strike="noStrike">
                <a:solidFill>
                  <a:srgbClr val="003399"/>
                </a:solidFill>
                <a:latin typeface="Arial"/>
              </a:rPr>
              <a:t>: Lugar de la superficie más próximo al hipocent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39640" y="5721480"/>
            <a:ext cx="7777440" cy="58716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La duración de los terremotos es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breve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, entre 20 y 60 segundos. Después del terremoto principal aparecen otros menores llamados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réplicas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4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4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8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2843280" y="330120"/>
            <a:ext cx="3313080" cy="337320"/>
          </a:xfrm>
          <a:prstGeom prst="rect">
            <a:avLst/>
          </a:prstGeom>
          <a:solidFill>
            <a:srgbClr val="ffff99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Verdana"/>
              </a:rPr>
              <a:t>UNA PERSPECTIVA GLOB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8" name=""/>
          <p:cNvGrpSpPr/>
          <p:nvPr/>
        </p:nvGrpSpPr>
        <p:grpSpPr>
          <a:xfrm>
            <a:off x="395280" y="1270080"/>
            <a:ext cx="1512720" cy="3023640"/>
            <a:chOff x="395280" y="1270080"/>
            <a:chExt cx="1512720" cy="3023640"/>
          </a:xfrm>
        </p:grpSpPr>
        <p:sp>
          <p:nvSpPr>
            <p:cNvPr id="309" name=""/>
            <p:cNvSpPr/>
            <p:nvPr/>
          </p:nvSpPr>
          <p:spPr>
            <a:xfrm>
              <a:off x="395280" y="1270080"/>
              <a:ext cx="1512720" cy="3023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44240" y="1544400"/>
              <a:ext cx="1439280" cy="256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egún el origen de la energía que los activa, los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rocesos geológicos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e dividen en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1" name=""/>
          <p:cNvSpPr/>
          <p:nvPr/>
        </p:nvSpPr>
        <p:spPr>
          <a:xfrm rot="2146200">
            <a:off x="1484280" y="2852640"/>
            <a:ext cx="963720" cy="479520"/>
          </a:xfrm>
          <a:custGeom>
            <a:avLst/>
            <a:gdLst/>
            <a:ahLst/>
            <a:rect l="l" t="t" r="r" b="b"/>
            <a:pathLst>
              <a:path w="63" h="30">
                <a:moveTo>
                  <a:pt x="63" y="0"/>
                </a:moveTo>
                <a:lnTo>
                  <a:pt x="48" y="2"/>
                </a:lnTo>
                <a:lnTo>
                  <a:pt x="50" y="5"/>
                </a:lnTo>
                <a:cubicBezTo>
                  <a:pt x="50" y="5"/>
                  <a:pt x="23" y="26"/>
                  <a:pt x="0" y="20"/>
                </a:cubicBezTo>
                <a:cubicBezTo>
                  <a:pt x="21" y="30"/>
                  <a:pt x="54" y="10"/>
                  <a:pt x="54" y="10"/>
                </a:cubicBezTo>
                <a:lnTo>
                  <a:pt x="56" y="13"/>
                </a:lnTo>
                <a:lnTo>
                  <a:pt x="63" y="0"/>
                </a:lnTo>
                <a:close/>
              </a:path>
            </a:pathLst>
          </a:custGeom>
          <a:gradFill rotWithShape="0">
            <a:gsLst>
              <a:gs pos="0">
                <a:srgbClr val="fc8ce4"/>
              </a:gs>
              <a:gs pos="100000">
                <a:srgbClr val="fcc7f1"/>
              </a:gs>
            </a:gsLst>
            <a:lin ang="10800000"/>
          </a:gra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2787480" y="3573360"/>
            <a:ext cx="3562200" cy="691560"/>
            <a:chOff x="2787480" y="3573360"/>
            <a:chExt cx="3562200" cy="691560"/>
          </a:xfrm>
        </p:grpSpPr>
        <p:sp>
          <p:nvSpPr>
            <p:cNvPr id="313" name=""/>
            <p:cNvSpPr/>
            <p:nvPr/>
          </p:nvSpPr>
          <p:spPr>
            <a:xfrm>
              <a:off x="2787480" y="3573360"/>
              <a:ext cx="3562200" cy="395640"/>
            </a:xfrm>
            <a:prstGeom prst="roundRect">
              <a:avLst>
                <a:gd name="adj" fmla="val 50000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921760" y="3622320"/>
              <a:ext cx="3292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Comic Sans MS"/>
                </a:rPr>
                <a:t>Procesos geológicos extern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5" name=""/>
          <p:cNvGrpSpPr/>
          <p:nvPr/>
        </p:nvGrpSpPr>
        <p:grpSpPr>
          <a:xfrm>
            <a:off x="2792520" y="1531800"/>
            <a:ext cx="3268080" cy="704520"/>
            <a:chOff x="2792520" y="1531800"/>
            <a:chExt cx="3268080" cy="704520"/>
          </a:xfrm>
        </p:grpSpPr>
        <p:sp>
          <p:nvSpPr>
            <p:cNvPr id="316" name=""/>
            <p:cNvSpPr/>
            <p:nvPr/>
          </p:nvSpPr>
          <p:spPr>
            <a:xfrm>
              <a:off x="2792520" y="1531800"/>
              <a:ext cx="3246840" cy="457200"/>
            </a:xfrm>
            <a:prstGeom prst="roundRect">
              <a:avLst>
                <a:gd name="adj" fmla="val 50000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813040" y="1593720"/>
              <a:ext cx="3247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Comic Sans MS"/>
                </a:rPr>
                <a:t>Procesos geológicos intern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2604960" y="1557360"/>
            <a:ext cx="216000" cy="3672000"/>
          </a:xfrm>
          <a:custGeom>
            <a:avLst/>
            <a:gdLst>
              <a:gd name="textAreaLeft" fmla="*/ 137880 w 216000"/>
              <a:gd name="textAreaRight" fmla="*/ 216360 w 216000"/>
              <a:gd name="textAreaTop" fmla="*/ 95760 h 3672000"/>
              <a:gd name="textAreaBottom" fmla="*/ 3576240 h 367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7572"/>
                </a:lnTo>
                <a:cubicBezTo>
                  <a:pt x="10800" y="8472"/>
                  <a:pt x="5400" y="9372"/>
                  <a:pt x="0" y="9372"/>
                </a:cubicBezTo>
                <a:cubicBezTo>
                  <a:pt x="5400" y="9372"/>
                  <a:pt x="10800" y="10272"/>
                  <a:pt x="10800" y="11172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110040" y="2133720"/>
            <a:ext cx="5616360" cy="1191240"/>
          </a:xfrm>
          <a:prstGeom prst="rect">
            <a:avLst/>
          </a:prstGeom>
          <a:solidFill>
            <a:srgbClr val="e3ffe3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3366"/>
                </a:solidFill>
                <a:latin typeface="Comic Sans MS"/>
              </a:rPr>
              <a:t>Se originan por la </a:t>
            </a:r>
            <a:r>
              <a:rPr b="1" lang="es-ES_tradnl" sz="1800" spc="-1" strike="noStrike">
                <a:solidFill>
                  <a:srgbClr val="003366"/>
                </a:solidFill>
                <a:latin typeface="Comic Sans MS"/>
              </a:rPr>
              <a:t>energía térmica del interior terrestre</a:t>
            </a:r>
            <a:r>
              <a:rPr b="0" lang="es-ES_tradnl" sz="1800" spc="-1" strike="noStrike">
                <a:solidFill>
                  <a:srgbClr val="003366"/>
                </a:solidFill>
                <a:latin typeface="Comic Sans MS"/>
              </a:rPr>
              <a:t>. Son los volcanes, los terremotos y la formación de cordilleras. Favorecen la elevación del terre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81320" y="4146480"/>
            <a:ext cx="5545080" cy="916920"/>
          </a:xfrm>
          <a:prstGeom prst="rect">
            <a:avLst/>
          </a:prstGeom>
          <a:solidFill>
            <a:srgbClr val="e3ffe3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3366"/>
                </a:solidFill>
                <a:latin typeface="Comic Sans MS"/>
              </a:rPr>
              <a:t>Se producen por la </a:t>
            </a:r>
            <a:r>
              <a:rPr b="1" lang="es-ES_tradnl" sz="1800" spc="-1" strike="noStrike">
                <a:solidFill>
                  <a:srgbClr val="003366"/>
                </a:solidFill>
                <a:latin typeface="Comic Sans MS"/>
              </a:rPr>
              <a:t>energía solar</a:t>
            </a:r>
            <a:r>
              <a:rPr b="0" lang="es-ES_tradnl" sz="1800" spc="-1" strike="noStrike">
                <a:solidFill>
                  <a:srgbClr val="003366"/>
                </a:solidFill>
                <a:latin typeface="Comic Sans MS"/>
              </a:rPr>
              <a:t>. Incluyen la erosión, transporte y sedimentación de ríos, glaciares y viento. Tienden a allanar el terre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5" dur="indefinite" restart="never" nodeType="tmRoot">
          <p:childTnLst>
            <p:seq>
              <p:cTn id="1116" dur="indefinite" nodeType="mainSeq">
                <p:childTnLst>
                  <p:par>
                    <p:cTn id="1117" fill="hold">
                      <p:stCondLst>
                        <p:cond delay="indefinite"/>
                      </p:stCondLst>
                      <p:childTnLst>
                        <p:par>
                          <p:cTn id="1118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2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2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9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0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1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2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7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8" fill="hold">
                      <p:stCondLst>
                        <p:cond delay="indefinite"/>
                      </p:stCondLst>
                      <p:childTnLst>
                        <p:par>
                          <p:cTn id="1139" fill="hold">
                            <p:stCondLst>
                              <p:cond delay="0"/>
                            </p:stCondLst>
                            <p:childTnLst>
                              <p:par>
                                <p:cTn id="11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2" dur="2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3" dur="2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4" dur="2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5" dur="2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6" fill="hold">
                      <p:stCondLst>
                        <p:cond delay="indefinite"/>
                      </p:stCondLst>
                      <p:childTnLst>
                        <p:par>
                          <p:cTn id="1147" fill="hold">
                            <p:stCondLst>
                              <p:cond delay="0"/>
                            </p:stCondLst>
                            <p:childTnLst>
                              <p:par>
                                <p:cTn id="11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0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1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52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9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0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1" fill="hold">
                      <p:stCondLst>
                        <p:cond delay="indefinite"/>
                      </p:stCondLst>
                      <p:childTnLst>
                        <p:par>
                          <p:cTn id="1162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65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6" fill="hold">
                      <p:stCondLst>
                        <p:cond delay="indefinite"/>
                      </p:stCondLst>
                      <p:childTnLst>
                        <p:par>
                          <p:cTn id="1167" fill="hold">
                            <p:stCondLst>
                              <p:cond delay="0"/>
                            </p:stCondLst>
                            <p:childTnLst>
                              <p:par>
                                <p:cTn id="11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70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7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/>
          <p:nvPr/>
        </p:nvSpPr>
        <p:spPr>
          <a:xfrm>
            <a:off x="2843280" y="115920"/>
            <a:ext cx="3313080" cy="337320"/>
          </a:xfrm>
          <a:prstGeom prst="rect">
            <a:avLst/>
          </a:prstGeom>
          <a:solidFill>
            <a:srgbClr val="ffff99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Verdana"/>
              </a:rPr>
              <a:t>UNA PERSPECTIVA GLOB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1"/>
          <a:stretch/>
        </p:blipFill>
        <p:spPr>
          <a:xfrm>
            <a:off x="108000" y="766800"/>
            <a:ext cx="4419720" cy="3101760"/>
          </a:xfrm>
          <a:prstGeom prst="rect">
            <a:avLst/>
          </a:prstGeom>
          <a:ln w="0">
            <a:noFill/>
          </a:ln>
        </p:spPr>
      </p:pic>
      <p:sp>
        <p:nvSpPr>
          <p:cNvPr id="323" name=""/>
          <p:cNvSpPr/>
          <p:nvPr/>
        </p:nvSpPr>
        <p:spPr>
          <a:xfrm>
            <a:off x="4788000" y="622440"/>
            <a:ext cx="352908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6600"/>
                </a:solidFill>
                <a:latin typeface="Arial"/>
              </a:rPr>
              <a:t>Los procesos</a:t>
            </a:r>
            <a:r>
              <a:rPr b="1" lang="es-ES_tradnl" sz="1600" spc="-1" strike="noStrike">
                <a:solidFill>
                  <a:srgbClr val="336600"/>
                </a:solidFill>
                <a:latin typeface="Arial"/>
              </a:rPr>
              <a:t> geológicos internos </a:t>
            </a:r>
            <a:r>
              <a:rPr b="0" lang="es-ES_tradnl" sz="1600" spc="-1" strike="noStrike">
                <a:solidFill>
                  <a:srgbClr val="336600"/>
                </a:solidFill>
                <a:latin typeface="Arial"/>
              </a:rPr>
              <a:t>hacen que el relieve se ele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 flipV="1">
            <a:off x="2924280" y="3213000"/>
            <a:ext cx="1431720" cy="1524240"/>
          </a:xfrm>
          <a:custGeom>
            <a:avLst/>
            <a:gdLst>
              <a:gd name="textAreaLeft" fmla="*/ 0 w 1431720"/>
              <a:gd name="textAreaRight" fmla="*/ 1432080 w 1431720"/>
              <a:gd name="textAreaTop" fmla="*/ 360 h 1524240"/>
              <a:gd name="textAreaBottom" fmla="*/ 1524960 h 1524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gradFill rotWithShape="0">
            <a:gsLst>
              <a:gs pos="0">
                <a:srgbClr val="bbe0e3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 flipV="1" rot="10671600">
            <a:off x="4787640" y="1195560"/>
            <a:ext cx="1431720" cy="1523880"/>
          </a:xfrm>
          <a:custGeom>
            <a:avLst/>
            <a:gdLst>
              <a:gd name="textAreaLeft" fmla="*/ 0 w 1431720"/>
              <a:gd name="textAreaRight" fmla="*/ 1432080 w 1431720"/>
              <a:gd name="textAreaTop" fmla="*/ -360 h 1523880"/>
              <a:gd name="textAreaBottom" fmla="*/ 152388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gradFill rotWithShape="0">
            <a:gsLst>
              <a:gs pos="0">
                <a:srgbClr val="bbe0e3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108000" y="4581360"/>
            <a:ext cx="338436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6600"/>
                </a:solidFill>
                <a:latin typeface="Arial"/>
              </a:rPr>
              <a:t>Los procesos</a:t>
            </a:r>
            <a:r>
              <a:rPr b="1" lang="es-ES_tradnl" sz="1600" spc="-1" strike="noStrike">
                <a:solidFill>
                  <a:srgbClr val="336600"/>
                </a:solidFill>
                <a:latin typeface="Arial"/>
              </a:rPr>
              <a:t> geológicos externos </a:t>
            </a:r>
            <a:r>
              <a:rPr b="0" lang="es-ES_tradnl" sz="1600" spc="-1" strike="noStrike">
                <a:solidFill>
                  <a:srgbClr val="336600"/>
                </a:solidFill>
                <a:latin typeface="Arial"/>
              </a:rPr>
              <a:t>allanan el terre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" descr=""/>
          <p:cNvPicPr/>
          <p:nvPr/>
        </p:nvPicPr>
        <p:blipFill>
          <a:blip r:embed="rId2"/>
          <a:stretch/>
        </p:blipFill>
        <p:spPr>
          <a:xfrm>
            <a:off x="4440240" y="2422440"/>
            <a:ext cx="4668840" cy="2835360"/>
          </a:xfrm>
          <a:prstGeom prst="rect">
            <a:avLst/>
          </a:prstGeom>
          <a:ln w="0">
            <a:noFill/>
          </a:ln>
        </p:spPr>
      </p:pic>
      <p:sp>
        <p:nvSpPr>
          <p:cNvPr id="328" name=""/>
          <p:cNvSpPr/>
          <p:nvPr/>
        </p:nvSpPr>
        <p:spPr>
          <a:xfrm>
            <a:off x="1258920" y="5595840"/>
            <a:ext cx="6121440" cy="64260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l relieve es el producto de la “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lucha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” entre procesos geológicos externos e intern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6" dur="indefinite" restart="never" nodeType="tmRoot">
          <p:childTnLst>
            <p:seq>
              <p:cTn id="1177" dur="indefinite" nodeType="mainSeq">
                <p:childTnLst>
                  <p:par>
                    <p:cTn id="1178" fill="hold">
                      <p:stCondLst>
                        <p:cond delay="indefinite"/>
                      </p:stCondLst>
                      <p:childTnLst>
                        <p:par>
                          <p:cTn id="1179" fill="hold">
                            <p:stCondLst>
                              <p:cond delay="0"/>
                            </p:stCondLst>
                            <p:childTnLst>
                              <p:par>
                                <p:cTn id="11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2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3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4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5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6" fill="hold">
                      <p:stCondLst>
                        <p:cond delay="indefinite"/>
                      </p:stCondLst>
                      <p:childTnLst>
                        <p:par>
                          <p:cTn id="1187" fill="hold">
                            <p:stCondLst>
                              <p:cond delay="0"/>
                            </p:stCondLst>
                            <p:childTnLst>
                              <p:par>
                                <p:cTn id="1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0" fill="hold">
                      <p:stCondLst>
                        <p:cond delay="indefinite"/>
                      </p:stCondLst>
                      <p:childTnLst>
                        <p:par>
                          <p:cTn id="1191" fill="hold">
                            <p:stCondLst>
                              <p:cond delay="0"/>
                            </p:stCondLst>
                            <p:childTnLst>
                              <p:par>
                                <p:cTn id="119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94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5" fill="hold">
                      <p:stCondLst>
                        <p:cond delay="indefinite"/>
                      </p:stCondLst>
                      <p:childTnLst>
                        <p:par>
                          <p:cTn id="1196" fill="hold">
                            <p:stCondLst>
                              <p:cond delay="0"/>
                            </p:stCondLst>
                            <p:childTnLst>
                              <p:par>
                                <p:cTn id="119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9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2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3" fill="hold">
                      <p:stCondLst>
                        <p:cond delay="indefinite"/>
                      </p:stCondLst>
                      <p:childTnLst>
                        <p:par>
                          <p:cTn id="1204" fill="hold">
                            <p:stCondLst>
                              <p:cond delay="0"/>
                            </p:stCondLst>
                            <p:childTnLst>
                              <p:par>
                                <p:cTn id="1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7" fill="hold">
                      <p:stCondLst>
                        <p:cond delay="indefinite"/>
                      </p:stCondLst>
                      <p:childTnLst>
                        <p:par>
                          <p:cTn id="1208" fill="hold">
                            <p:stCondLst>
                              <p:cond delay="0"/>
                            </p:stCondLst>
                            <p:childTnLst>
                              <p:par>
                                <p:cTn id="120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1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2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3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4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5" fill="hold">
                      <p:stCondLst>
                        <p:cond delay="indefinite"/>
                      </p:stCondLst>
                      <p:childTnLst>
                        <p:par>
                          <p:cTn id="1216" fill="hold">
                            <p:stCondLst>
                              <p:cond delay="0"/>
                            </p:stCondLst>
                            <p:childTnLst>
                              <p:par>
                                <p:cTn id="121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1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0" fill="hold">
                      <p:stCondLst>
                        <p:cond delay="indefinite"/>
                      </p:stCondLst>
                      <p:childTnLst>
                        <p:par>
                          <p:cTn id="1221" fill="hold">
                            <p:stCondLst>
                              <p:cond delay="0"/>
                            </p:stCondLst>
                            <p:childTnLst>
                              <p:par>
                                <p:cTn id="1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851280" y="338040"/>
            <a:ext cx="4824360" cy="348768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3170160" y="114480"/>
            <a:ext cx="2808360" cy="337320"/>
          </a:xfrm>
          <a:prstGeom prst="rect">
            <a:avLst/>
          </a:prstGeom>
          <a:solidFill>
            <a:srgbClr val="ffff99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Verdana"/>
              </a:rPr>
              <a:t>LOS TERREMOT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79280" y="549360"/>
            <a:ext cx="3097440" cy="3682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Registro de los terremo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55640" y="1071720"/>
            <a:ext cx="3600360" cy="70380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Sismógrafo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: Instrumento que registra y mide los seísm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08000" y="3735360"/>
            <a:ext cx="8893080" cy="39888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Sismograma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: Gráficas que dibujan los sismógrafos al registrar un terremo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908000" y="4233960"/>
            <a:ext cx="5329440" cy="250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3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170160" y="114480"/>
            <a:ext cx="2808360" cy="337320"/>
          </a:xfrm>
          <a:prstGeom prst="rect">
            <a:avLst/>
          </a:prstGeom>
          <a:solidFill>
            <a:srgbClr val="ffff99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Verdana"/>
              </a:rPr>
              <a:t>LOS TERREMOT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79280" y="549360"/>
            <a:ext cx="4608720" cy="3682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Magnitud e intensidad de los terremo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50920" y="1216080"/>
            <a:ext cx="1296720" cy="3373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3399"/>
                </a:solidFill>
                <a:latin typeface="Arial"/>
              </a:rPr>
              <a:t>MAGNITU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179280" y="2316240"/>
            <a:ext cx="3176640" cy="3200400"/>
            <a:chOff x="179280" y="2316240"/>
            <a:chExt cx="3176640" cy="3200400"/>
          </a:xfrm>
        </p:grpSpPr>
        <p:sp>
          <p:nvSpPr>
            <p:cNvPr id="101" name=""/>
            <p:cNvSpPr/>
            <p:nvPr/>
          </p:nvSpPr>
          <p:spPr>
            <a:xfrm>
              <a:off x="209520" y="2316240"/>
              <a:ext cx="3024000" cy="320040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09520" y="3078360"/>
              <a:ext cx="30240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09520" y="3573720"/>
              <a:ext cx="30240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09520" y="4069080"/>
              <a:ext cx="30240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09520" y="4564440"/>
              <a:ext cx="30240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09520" y="5059440"/>
              <a:ext cx="302400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371600" y="2316240"/>
              <a:ext cx="1440" cy="320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79280" y="2532240"/>
              <a:ext cx="1258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Magnitu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163520" y="2468880"/>
              <a:ext cx="21924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Energía equivalente en bombas de Hiroshim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" name=""/>
          <p:cNvSpPr/>
          <p:nvPr/>
        </p:nvSpPr>
        <p:spPr>
          <a:xfrm>
            <a:off x="333360" y="315432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33360" y="413856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33360" y="463068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33360" y="512280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33360" y="364644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04960" y="315432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1/3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666800" y="4151160"/>
            <a:ext cx="129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704960" y="463068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1.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704960" y="512280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33.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704960" y="365904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76360" y="1125360"/>
            <a:ext cx="300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antidad de energía que libera un terremo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25320" y="188424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c65000"/>
                </a:solidFill>
                <a:latin typeface="Arial"/>
              </a:rPr>
              <a:t>ESCALA DE RICH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807160" y="620640"/>
            <a:ext cx="1447560" cy="3373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3399"/>
                </a:solidFill>
                <a:latin typeface="Arial"/>
              </a:rPr>
              <a:t>INTENSID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500720" y="907920"/>
            <a:ext cx="424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s la medida de los efectos de un terremoto sobre las personas, las construcciones y el terren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3564000" y="2174760"/>
            <a:ext cx="5486400" cy="4584600"/>
            <a:chOff x="3564000" y="2174760"/>
            <a:chExt cx="5486400" cy="4584600"/>
          </a:xfrm>
        </p:grpSpPr>
        <p:grpSp>
          <p:nvGrpSpPr>
            <p:cNvPr id="125" name=""/>
            <p:cNvGrpSpPr/>
            <p:nvPr/>
          </p:nvGrpSpPr>
          <p:grpSpPr>
            <a:xfrm>
              <a:off x="3619800" y="2187360"/>
              <a:ext cx="5430600" cy="4572000"/>
              <a:chOff x="3619800" y="2187360"/>
              <a:chExt cx="5430600" cy="4572000"/>
            </a:xfrm>
          </p:grpSpPr>
          <p:grpSp>
            <p:nvGrpSpPr>
              <p:cNvPr id="126" name=""/>
              <p:cNvGrpSpPr/>
              <p:nvPr/>
            </p:nvGrpSpPr>
            <p:grpSpPr>
              <a:xfrm>
                <a:off x="3619800" y="2187360"/>
                <a:ext cx="5430600" cy="4572000"/>
                <a:chOff x="3619800" y="2187360"/>
                <a:chExt cx="5430600" cy="4572000"/>
              </a:xfrm>
            </p:grpSpPr>
            <p:grpSp>
              <p:nvGrpSpPr>
                <p:cNvPr id="127" name=""/>
                <p:cNvGrpSpPr/>
                <p:nvPr/>
              </p:nvGrpSpPr>
              <p:grpSpPr>
                <a:xfrm>
                  <a:off x="3619800" y="2187360"/>
                  <a:ext cx="5430600" cy="4572000"/>
                  <a:chOff x="3619800" y="2187360"/>
                  <a:chExt cx="5430600" cy="4572000"/>
                </a:xfrm>
              </p:grpSpPr>
              <p:grpSp>
                <p:nvGrpSpPr>
                  <p:cNvPr id="128" name=""/>
                  <p:cNvGrpSpPr/>
                  <p:nvPr/>
                </p:nvGrpSpPr>
                <p:grpSpPr>
                  <a:xfrm>
                    <a:off x="3619800" y="2187360"/>
                    <a:ext cx="5430600" cy="4572000"/>
                    <a:chOff x="3619800" y="2187360"/>
                    <a:chExt cx="5430600" cy="4572000"/>
                  </a:xfrm>
                </p:grpSpPr>
                <p:sp>
                  <p:nvSpPr>
                    <p:cNvPr id="129" name=""/>
                    <p:cNvSpPr/>
                    <p:nvPr/>
                  </p:nvSpPr>
                  <p:spPr>
                    <a:xfrm>
                      <a:off x="3619800" y="2187360"/>
                      <a:ext cx="5430600" cy="4572000"/>
                    </a:xfrm>
                    <a:prstGeom prst="rect">
                      <a:avLst/>
                    </a:prstGeom>
                    <a:solidFill>
                      <a:srgbClr val="ccffcc"/>
                    </a:solidFill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0" name=""/>
                    <p:cNvSpPr/>
                    <p:nvPr/>
                  </p:nvSpPr>
                  <p:spPr>
                    <a:xfrm>
                      <a:off x="3619800" y="2568240"/>
                      <a:ext cx="5430600" cy="180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1" name=""/>
                    <p:cNvSpPr/>
                    <p:nvPr/>
                  </p:nvSpPr>
                  <p:spPr>
                    <a:xfrm>
                      <a:off x="3619800" y="3260520"/>
                      <a:ext cx="5430600" cy="144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2" name=""/>
                    <p:cNvSpPr/>
                    <p:nvPr/>
                  </p:nvSpPr>
                  <p:spPr>
                    <a:xfrm>
                      <a:off x="3619800" y="3952800"/>
                      <a:ext cx="5430600" cy="144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3" name=""/>
                    <p:cNvSpPr/>
                    <p:nvPr/>
                  </p:nvSpPr>
                  <p:spPr>
                    <a:xfrm>
                      <a:off x="3619800" y="2914560"/>
                      <a:ext cx="5430600" cy="144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4" name=""/>
                    <p:cNvSpPr/>
                    <p:nvPr/>
                  </p:nvSpPr>
                  <p:spPr>
                    <a:xfrm>
                      <a:off x="3619800" y="3606480"/>
                      <a:ext cx="5430600" cy="180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5" name=""/>
                  <p:cNvSpPr/>
                  <p:nvPr/>
                </p:nvSpPr>
                <p:spPr>
                  <a:xfrm>
                    <a:off x="3619800" y="5337000"/>
                    <a:ext cx="5430600" cy="144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"/>
                  <p:cNvSpPr/>
                  <p:nvPr/>
                </p:nvSpPr>
                <p:spPr>
                  <a:xfrm>
                    <a:off x="3619800" y="6376680"/>
                    <a:ext cx="5430600" cy="180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"/>
                  <p:cNvSpPr/>
                  <p:nvPr/>
                </p:nvSpPr>
                <p:spPr>
                  <a:xfrm>
                    <a:off x="3619800" y="4991040"/>
                    <a:ext cx="5430600" cy="144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"/>
                  <p:cNvSpPr/>
                  <p:nvPr/>
                </p:nvSpPr>
                <p:spPr>
                  <a:xfrm>
                    <a:off x="3619800" y="5682960"/>
                    <a:ext cx="5430600" cy="180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" name=""/>
                  <p:cNvSpPr/>
                  <p:nvPr/>
                </p:nvSpPr>
                <p:spPr>
                  <a:xfrm>
                    <a:off x="3619800" y="6029280"/>
                    <a:ext cx="5430600" cy="144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0" name=""/>
                <p:cNvSpPr/>
                <p:nvPr/>
              </p:nvSpPr>
              <p:spPr>
                <a:xfrm>
                  <a:off x="3619800" y="4644720"/>
                  <a:ext cx="5430600" cy="18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3619800" y="4298760"/>
                  <a:ext cx="5430600" cy="14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2" name=""/>
              <p:cNvSpPr/>
              <p:nvPr/>
            </p:nvSpPr>
            <p:spPr>
              <a:xfrm>
                <a:off x="4338720" y="2187360"/>
                <a:ext cx="1800" cy="4572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3" name=""/>
            <p:cNvSpPr/>
            <p:nvPr/>
          </p:nvSpPr>
          <p:spPr>
            <a:xfrm>
              <a:off x="3564000" y="2187360"/>
              <a:ext cx="86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3399"/>
                  </a:solidFill>
                  <a:latin typeface="Arial"/>
                </a:rPr>
                <a:t>Grad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376960" y="2174760"/>
              <a:ext cx="3210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3399"/>
                  </a:solidFill>
                  <a:latin typeface="Arial"/>
                </a:rPr>
                <a:t>Efectos observado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3564000" y="4627440"/>
            <a:ext cx="8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VI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564000" y="4280040"/>
            <a:ext cx="8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V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402080" y="4979880"/>
            <a:ext cx="464832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000066"/>
                </a:solidFill>
                <a:latin typeface="Arial"/>
              </a:rPr>
              <a:t>Las construcciones especialmente diseñadas se dañan ligeramente, las otras se derrumba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402080" y="5364000"/>
            <a:ext cx="464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000066"/>
                </a:solidFill>
                <a:latin typeface="Arial"/>
              </a:rPr>
              <a:t>Pánico general. Todos los edificios dañados. Grietas en el suel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414680" y="6018120"/>
            <a:ext cx="471168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000066"/>
                </a:solidFill>
                <a:latin typeface="Arial"/>
              </a:rPr>
              <a:t>Derrumbe de casi todas las construcciones, puentes destruidos. Grietas muy amplias en el suel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414680" y="6365880"/>
            <a:ext cx="444204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000066"/>
                </a:solidFill>
                <a:latin typeface="Arial"/>
              </a:rPr>
              <a:t>Destrucción total. Grandes masas de rocas desplazadas. Objetos proyectados al ai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402080" y="5710320"/>
            <a:ext cx="4442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000066"/>
                </a:solidFill>
                <a:latin typeface="Arial"/>
              </a:rPr>
              <a:t>Muchas construcciones derruidas. Suelo muy agrietad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402080" y="4633920"/>
            <a:ext cx="464832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000066"/>
                </a:solidFill>
                <a:latin typeface="Arial"/>
              </a:rPr>
              <a:t>Todo el mundo corre fuera de los edificios. Muchas construcciones sufren daños grav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564000" y="2549520"/>
            <a:ext cx="8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564000" y="2895480"/>
            <a:ext cx="8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I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564000" y="3241800"/>
            <a:ext cx="8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II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564000" y="3587760"/>
            <a:ext cx="8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I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564000" y="3933720"/>
            <a:ext cx="8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564000" y="4973760"/>
            <a:ext cx="8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VII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64000" y="5319720"/>
            <a:ext cx="8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I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564000" y="6012000"/>
            <a:ext cx="8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X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564000" y="6359400"/>
            <a:ext cx="8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XI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64000" y="5665680"/>
            <a:ext cx="8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402080" y="2593800"/>
            <a:ext cx="464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000066"/>
                </a:solidFill>
                <a:latin typeface="Arial"/>
              </a:rPr>
              <a:t>Casi nadie lo ha sentid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402080" y="2940120"/>
            <a:ext cx="464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000066"/>
                </a:solidFill>
                <a:latin typeface="Arial"/>
              </a:rPr>
              <a:t>Percibido sólo por algunas personas en repos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402080" y="3260880"/>
            <a:ext cx="464832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000066"/>
                </a:solidFill>
                <a:latin typeface="Arial"/>
              </a:rPr>
              <a:t>Temblor notado por mucha gente pero no suelen darse cuenta de que es un terremot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402080" y="3664080"/>
            <a:ext cx="46483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000066"/>
                </a:solidFill>
                <a:latin typeface="Arial"/>
              </a:rPr>
              <a:t>Se siente en el interior de edificios. Vibran ventanas y puert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402080" y="3978360"/>
            <a:ext cx="464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000066"/>
                </a:solidFill>
                <a:latin typeface="Arial"/>
              </a:rPr>
              <a:t>Sentido por casi todos; mucha gente se despier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402080" y="4286160"/>
            <a:ext cx="464832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000066"/>
                </a:solidFill>
                <a:latin typeface="Arial"/>
              </a:rPr>
              <a:t>Sentido por todos; mucha gente sale a la calle. Ligeros daños, fisuras en las pared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148360" y="1844640"/>
            <a:ext cx="2819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c65000"/>
                </a:solidFill>
                <a:latin typeface="Arial"/>
              </a:rPr>
              <a:t>ESCALA M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7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2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2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3170160" y="114480"/>
            <a:ext cx="2808360" cy="337320"/>
          </a:xfrm>
          <a:prstGeom prst="rect">
            <a:avLst/>
          </a:prstGeom>
          <a:solidFill>
            <a:srgbClr val="ffff99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Verdana"/>
              </a:rPr>
              <a:t>LOS TERREMOT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635280" y="620640"/>
            <a:ext cx="1800360" cy="576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VER VIDE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1187280" y="549360"/>
            <a:ext cx="6480360" cy="483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8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8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96" dur="312031" fill="hold"/>
                                        <p:tgtEl>
                                          <p:spTgt spid="1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3530520" y="114480"/>
            <a:ext cx="2049480" cy="337320"/>
          </a:xfrm>
          <a:prstGeom prst="rect">
            <a:avLst/>
          </a:prstGeom>
          <a:solidFill>
            <a:srgbClr val="ffff99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Verdana"/>
              </a:rPr>
              <a:t>RIESGO SÍSMIC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1442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457200" y="1052640"/>
          <a:ext cx="8147160" cy="3045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1974960"/>
              </a:tblGrid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ECH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UG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UERT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GNITU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6" name=""/>
          <p:cNvSpPr/>
          <p:nvPr/>
        </p:nvSpPr>
        <p:spPr>
          <a:xfrm>
            <a:off x="4481640" y="135684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516640" y="227268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468360" y="1454040"/>
          <a:ext cx="8136000" cy="3106800"/>
        </p:xfrm>
        <a:graphic>
          <a:graphicData uri="http://schemas.openxmlformats.org/drawingml/2006/table">
            <a:tbl>
              <a:tblPr/>
              <a:tblGrid>
                <a:gridCol w="2016000"/>
                <a:gridCol w="2087640"/>
                <a:gridCol w="2087640"/>
                <a:gridCol w="1944720"/>
              </a:tblGrid>
              <a:tr h="729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/01/155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ina, Shans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0.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/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9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/10/173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dia, Calcuta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0.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/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/07/197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ina, Tangst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5.000*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9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9/08/11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ria, Alepp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0.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/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/05/19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ina,  Xin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.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.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9" name=""/>
          <p:cNvSpPr/>
          <p:nvPr/>
        </p:nvSpPr>
        <p:spPr>
          <a:xfrm>
            <a:off x="4481640" y="47732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556000" y="620280"/>
            <a:ext cx="4176720" cy="34056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Los 5 terremotos más destructiv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682560" y="3979080"/>
            <a:ext cx="3098880" cy="2789640"/>
            <a:chOff x="682560" y="3979080"/>
            <a:chExt cx="3098880" cy="2789640"/>
          </a:xfrm>
        </p:grpSpPr>
        <p:sp>
          <p:nvSpPr>
            <p:cNvPr id="182" name=""/>
            <p:cNvSpPr/>
            <p:nvPr/>
          </p:nvSpPr>
          <p:spPr>
            <a:xfrm rot="444600">
              <a:off x="828360" y="4149720"/>
              <a:ext cx="2806560" cy="2448000"/>
            </a:xfrm>
            <a:prstGeom prst="irregularSeal2">
              <a:avLst/>
            </a:prstGeom>
            <a:solidFill>
              <a:srgbClr val="99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403280" y="4960800"/>
              <a:ext cx="14684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¿Se pueden predecir los terremotos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3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23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2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2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108000" y="2852640"/>
            <a:ext cx="3816360" cy="345600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3995640" y="1917720"/>
            <a:ext cx="4392720" cy="70380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e puede estimar la probabilidad de que en una zona haya un terremo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70160" y="114480"/>
            <a:ext cx="2808360" cy="337320"/>
          </a:xfrm>
          <a:prstGeom prst="rect">
            <a:avLst/>
          </a:prstGeom>
          <a:solidFill>
            <a:srgbClr val="ffff99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Verdana"/>
              </a:rPr>
              <a:t>RIESGO SÍSMIC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5280" y="620640"/>
            <a:ext cx="4968720" cy="58716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No se puede predecir el lugar y el momento en el que se va a producir un terremo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390760" y="1136160"/>
            <a:ext cx="1780560" cy="1212840"/>
            <a:chOff x="2390760" y="1136160"/>
            <a:chExt cx="1780560" cy="1212840"/>
          </a:xfrm>
        </p:grpSpPr>
        <p:sp>
          <p:nvSpPr>
            <p:cNvPr id="189" name=""/>
            <p:cNvSpPr/>
            <p:nvPr/>
          </p:nvSpPr>
          <p:spPr>
            <a:xfrm rot="10800000">
              <a:off x="2700000" y="1135800"/>
              <a:ext cx="1471320" cy="1212840"/>
            </a:xfrm>
            <a:custGeom>
              <a:avLst/>
              <a:gdLst/>
              <a:ahLst/>
              <a:rect l="l" t="t" r="r" b="b"/>
              <a:pathLst>
                <a:path w="927" h="764">
                  <a:moveTo>
                    <a:pt x="889" y="764"/>
                  </a:moveTo>
                  <a:lnTo>
                    <a:pt x="169" y="284"/>
                  </a:lnTo>
                  <a:lnTo>
                    <a:pt x="101" y="335"/>
                  </a:lnTo>
                  <a:lnTo>
                    <a:pt x="0" y="0"/>
                  </a:lnTo>
                  <a:lnTo>
                    <a:pt x="350" y="39"/>
                  </a:lnTo>
                  <a:lnTo>
                    <a:pt x="296" y="117"/>
                  </a:lnTo>
                  <a:lnTo>
                    <a:pt x="927" y="709"/>
                  </a:lnTo>
                  <a:lnTo>
                    <a:pt x="889" y="764"/>
                  </a:lnTo>
                  <a:close/>
                </a:path>
              </a:pathLst>
            </a:custGeom>
            <a:gradFill rotWithShape="0">
              <a:gsLst>
                <a:gs pos="0">
                  <a:srgbClr val="ffcc99"/>
                </a:gs>
                <a:gs pos="100000">
                  <a:srgbClr val="ff6600"/>
                </a:gs>
              </a:gsLst>
              <a:lin ang="13500000"/>
            </a:gradFill>
            <a:ln w="9360">
              <a:solidFill>
                <a:srgbClr val="000000"/>
              </a:solidFill>
              <a:round/>
            </a:ln>
            <a:effectLst>
              <a:outerShdw dist="36147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390760" y="1412640"/>
              <a:ext cx="1388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in embarg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4429080" y="3309840"/>
            <a:ext cx="2014560" cy="5806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</a:rPr>
              <a:t>Características geológic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2" name=""/>
          <p:cNvCxnSpPr>
            <a:stCxn id="185" idx="2"/>
            <a:endCxn id="191" idx="0"/>
          </p:cNvCxnSpPr>
          <p:nvPr/>
        </p:nvCxnSpPr>
        <p:spPr>
          <a:xfrm rot="5400000">
            <a:off x="5468760" y="2586600"/>
            <a:ext cx="691200" cy="756360"/>
          </a:xfrm>
          <a:prstGeom prst="curvedConnector5">
            <a:avLst>
              <a:gd name="adj1" fmla="val 49869"/>
              <a:gd name="adj2" fmla="val 50000"/>
              <a:gd name="adj3" fmla="val 4986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3" name=""/>
          <p:cNvSpPr/>
          <p:nvPr/>
        </p:nvSpPr>
        <p:spPr>
          <a:xfrm>
            <a:off x="7164360" y="3279600"/>
            <a:ext cx="1224000" cy="5806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</a:rPr>
              <a:t>Datos históric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85" idx="2"/>
            <a:endCxn id="193" idx="0"/>
          </p:cNvCxnSpPr>
          <p:nvPr/>
        </p:nvCxnSpPr>
        <p:spPr>
          <a:xfrm flipH="1" rot="16200000">
            <a:off x="6653880" y="2157120"/>
            <a:ext cx="660600" cy="15850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3059640" y="2701800"/>
            <a:ext cx="244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a lo que se estu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4067280" y="3933720"/>
            <a:ext cx="4465440" cy="719280"/>
            <a:chOff x="4067280" y="3933720"/>
            <a:chExt cx="4465440" cy="719280"/>
          </a:xfrm>
        </p:grpSpPr>
        <p:sp>
          <p:nvSpPr>
            <p:cNvPr id="197" name=""/>
            <p:cNvSpPr/>
            <p:nvPr/>
          </p:nvSpPr>
          <p:spPr>
            <a:xfrm>
              <a:off x="4067280" y="4221000"/>
              <a:ext cx="4465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4067280" y="3933720"/>
              <a:ext cx="0" cy="287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8532720" y="3933720"/>
              <a:ext cx="0" cy="287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156360" y="4221000"/>
              <a:ext cx="0" cy="432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" name=""/>
          <p:cNvSpPr/>
          <p:nvPr/>
        </p:nvSpPr>
        <p:spPr>
          <a:xfrm>
            <a:off x="6338160" y="4221000"/>
            <a:ext cx="25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 que permite calcu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284720" y="4826520"/>
            <a:ext cx="4535280" cy="833760"/>
          </a:xfrm>
          <a:prstGeom prst="rect">
            <a:avLst/>
          </a:prstGeom>
          <a:solidFill>
            <a:srgbClr val="3ae8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l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riesgo sísmico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: Probabilidad de que ocurra un terremoto de cierta intensidad durante un período de tiempo determin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0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0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5" dur="8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6" dur="8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8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8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7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6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5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1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1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1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3203640" y="114480"/>
            <a:ext cx="2735280" cy="337320"/>
          </a:xfrm>
          <a:prstGeom prst="rect">
            <a:avLst/>
          </a:prstGeom>
          <a:solidFill>
            <a:srgbClr val="ffff99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Verdana"/>
              </a:rPr>
              <a:t>RIESGO SÍSMIC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995640" y="620640"/>
            <a:ext cx="3529080" cy="3373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</a:rPr>
              <a:t>Elaborar mapas de riesgo sísmic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5" name=""/>
          <p:cNvCxnSpPr>
            <a:stCxn id="206" idx="3"/>
            <a:endCxn id="204" idx="1"/>
          </p:cNvCxnSpPr>
          <p:nvPr/>
        </p:nvCxnSpPr>
        <p:spPr>
          <a:xfrm flipV="1">
            <a:off x="3131640" y="788400"/>
            <a:ext cx="864360" cy="36900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4572000" y="1002240"/>
            <a:ext cx="4105440" cy="83376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onocer los terremotos del pasado permite conocer la probabilidad de los que pueden ocurr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995640" y="2060640"/>
            <a:ext cx="3672000" cy="3373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</a:rPr>
              <a:t>Establecer normas de construc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9" name=""/>
          <p:cNvCxnSpPr>
            <a:stCxn id="206" idx="3"/>
            <a:endCxn id="208" idx="1"/>
          </p:cNvCxnSpPr>
          <p:nvPr/>
        </p:nvCxnSpPr>
        <p:spPr>
          <a:xfrm>
            <a:off x="3131640" y="1157400"/>
            <a:ext cx="864360" cy="1072080"/>
          </a:xfrm>
          <a:prstGeom prst="curvedConnector5">
            <a:avLst>
              <a:gd name="adj1" fmla="val 50000"/>
              <a:gd name="adj2" fmla="val 49983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0" name=""/>
          <p:cNvSpPr/>
          <p:nvPr/>
        </p:nvSpPr>
        <p:spPr>
          <a:xfrm>
            <a:off x="4068720" y="2442240"/>
            <a:ext cx="4896000" cy="83376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n las zonas con elevado riesgo sísmico los edificios se construyen con normas que los hagan resistentes a los terremo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95640" y="3500280"/>
            <a:ext cx="2376720" cy="3373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</a:rPr>
              <a:t>Educar a la pobl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2" name=""/>
          <p:cNvCxnSpPr>
            <a:stCxn id="206" idx="3"/>
            <a:endCxn id="211" idx="1"/>
          </p:cNvCxnSpPr>
          <p:nvPr/>
        </p:nvCxnSpPr>
        <p:spPr>
          <a:xfrm>
            <a:off x="3131640" y="1157400"/>
            <a:ext cx="864360" cy="2512080"/>
          </a:xfrm>
          <a:prstGeom prst="curvedConnector5">
            <a:avLst>
              <a:gd name="adj1" fmla="val 50000"/>
              <a:gd name="adj2" fmla="val 49992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6" name=""/>
          <p:cNvSpPr/>
          <p:nvPr/>
        </p:nvSpPr>
        <p:spPr>
          <a:xfrm>
            <a:off x="612720" y="836640"/>
            <a:ext cx="2519280" cy="6426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Principales medidas de preven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490680" y="1773360"/>
            <a:ext cx="2857320" cy="39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8" dur="indefinite" restart="never" nodeType="tmRoot">
          <p:childTnLst>
            <p:seq>
              <p:cTn id="619" dur="indefinite" nodeType="mainSeq">
                <p:childTnLst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4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29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6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5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7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4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69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4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3170160" y="114480"/>
            <a:ext cx="2808360" cy="337320"/>
          </a:xfrm>
          <a:prstGeom prst="rect">
            <a:avLst/>
          </a:prstGeom>
          <a:solidFill>
            <a:srgbClr val="ffff99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Verdana"/>
              </a:rPr>
              <a:t>RIESGO SÍSMIC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>
            <a:hlinkClick r:id="rId1"/>
          </p:cNvPr>
          <p:cNvSpPr/>
          <p:nvPr/>
        </p:nvSpPr>
        <p:spPr>
          <a:xfrm>
            <a:off x="539640" y="639720"/>
            <a:ext cx="7920000" cy="39888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Tsunami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: Ver infografí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7" dur="indefinite" restart="never" nodeType="tmRoot">
          <p:childTnLst>
            <p:seq>
              <p:cTn id="688" dur="indefinite" nodeType="mainSeq">
                <p:childTnLst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3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44:10Z</dcterms:created>
  <dc:creator>alberto</dc:creator>
  <dc:description/>
  <dc:language>en-US</dc:language>
  <cp:lastModifiedBy>Alberto</cp:lastModifiedBy>
  <dcterms:modified xsi:type="dcterms:W3CDTF">2009-05-17T10:36:08Z</dcterms:modified>
  <cp:revision>148</cp:revision>
  <dc:subject/>
  <dc:title>Diapositiva 1</dc:title>
</cp:coreProperties>
</file>